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6980400" cy="9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dt" idx="8"/>
          </p:nvPr>
        </p:nvSpPr>
        <p:spPr>
          <a:xfrm>
            <a:off x="3955680" y="-36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Img"/>
          </p:nvPr>
        </p:nvSpPr>
        <p:spPr>
          <a:xfrm>
            <a:off x="1189080" y="690480"/>
            <a:ext cx="4605120" cy="345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body"/>
          </p:nvPr>
        </p:nvSpPr>
        <p:spPr>
          <a:xfrm>
            <a:off x="929880" y="4375080"/>
            <a:ext cx="511956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ftr" idx="9"/>
          </p:nvPr>
        </p:nvSpPr>
        <p:spPr>
          <a:xfrm>
            <a:off x="-360" y="874980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 type="sldNum" idx="10"/>
          </p:nvPr>
        </p:nvSpPr>
        <p:spPr>
          <a:xfrm>
            <a:off x="3955680" y="874980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44546CB-7F58-408A-9F74-763AFDCD8ED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89080" y="690480"/>
            <a:ext cx="4605120" cy="34545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29880" y="4375080"/>
            <a:ext cx="51195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426" name="灯片编号占位符 3"/>
          <p:cNvSpPr/>
          <p:nvPr/>
        </p:nvSpPr>
        <p:spPr>
          <a:xfrm>
            <a:off x="3956040" y="8750160"/>
            <a:ext cx="3024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9E2BD6B-9ACA-4CFE-9BEE-E20657CDA18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89080" y="690480"/>
            <a:ext cx="4605120" cy="34545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29880" y="4375080"/>
            <a:ext cx="51195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441" name="灯片编号占位符 3"/>
          <p:cNvSpPr/>
          <p:nvPr/>
        </p:nvSpPr>
        <p:spPr>
          <a:xfrm>
            <a:off x="3956040" y="8750160"/>
            <a:ext cx="3024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2EB365D-06EE-4038-A265-9BCD856B50F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89080" y="690480"/>
            <a:ext cx="4605120" cy="345456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9880" y="4375080"/>
            <a:ext cx="51195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444" name="灯片编号占位符 3"/>
          <p:cNvSpPr/>
          <p:nvPr/>
        </p:nvSpPr>
        <p:spPr>
          <a:xfrm>
            <a:off x="3956040" y="8750160"/>
            <a:ext cx="3024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8F17ED-DA40-4F43-A458-B176DADD650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89080" y="690480"/>
            <a:ext cx="4605120" cy="34545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9880" y="4375080"/>
            <a:ext cx="51195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447" name="灯片编号占位符 3"/>
          <p:cNvSpPr/>
          <p:nvPr/>
        </p:nvSpPr>
        <p:spPr>
          <a:xfrm>
            <a:off x="3956040" y="8750160"/>
            <a:ext cx="3024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04BED0D-9514-4C4B-B196-97D548C149F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89080" y="690480"/>
            <a:ext cx="4605120" cy="34545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29880" y="4375080"/>
            <a:ext cx="51195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450" name="灯片编号占位符 3"/>
          <p:cNvSpPr/>
          <p:nvPr/>
        </p:nvSpPr>
        <p:spPr>
          <a:xfrm>
            <a:off x="3956040" y="8750160"/>
            <a:ext cx="3024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8A6EB64-5039-4513-B61D-2F5BA5BC531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89080" y="690480"/>
            <a:ext cx="4605120" cy="34545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29880" y="4375080"/>
            <a:ext cx="51195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429" name="灯片编号占位符 3"/>
          <p:cNvSpPr/>
          <p:nvPr/>
        </p:nvSpPr>
        <p:spPr>
          <a:xfrm>
            <a:off x="3956040" y="8750160"/>
            <a:ext cx="3024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D492A19-08FD-49B2-9A53-B76F78F4EC2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89080" y="690480"/>
            <a:ext cx="4605120" cy="34545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9880" y="4375080"/>
            <a:ext cx="511956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灯片编号占位符 3"/>
          <p:cNvSpPr/>
          <p:nvPr/>
        </p:nvSpPr>
        <p:spPr>
          <a:xfrm>
            <a:off x="3956040" y="8750160"/>
            <a:ext cx="3024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9B539FA-3C8A-425E-92D4-66384DDECB6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89080" y="690480"/>
            <a:ext cx="4605120" cy="34545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9880" y="4375080"/>
            <a:ext cx="51195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456" name="灯片编号占位符 3"/>
          <p:cNvSpPr/>
          <p:nvPr/>
        </p:nvSpPr>
        <p:spPr>
          <a:xfrm>
            <a:off x="3956040" y="8750160"/>
            <a:ext cx="3024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51CE3E6-5B13-46B3-89B5-9701D0AE944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89080" y="690480"/>
            <a:ext cx="4605120" cy="34545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29880" y="4375080"/>
            <a:ext cx="51195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459" name="灯片编号占位符 3"/>
          <p:cNvSpPr/>
          <p:nvPr/>
        </p:nvSpPr>
        <p:spPr>
          <a:xfrm>
            <a:off x="3956040" y="8750160"/>
            <a:ext cx="3024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E2588AD-9B8D-43CF-B646-3CF7047C322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89080" y="690480"/>
            <a:ext cx="4605120" cy="34545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9880" y="4375080"/>
            <a:ext cx="51195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432" name="灯片编号占位符 3"/>
          <p:cNvSpPr/>
          <p:nvPr/>
        </p:nvSpPr>
        <p:spPr>
          <a:xfrm>
            <a:off x="3956040" y="8750160"/>
            <a:ext cx="3024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4F54C4E-1587-4664-8D0C-31BDC19E247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89080" y="690480"/>
            <a:ext cx="4605120" cy="34545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9880" y="4375080"/>
            <a:ext cx="51195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435" name="灯片编号占位符 3"/>
          <p:cNvSpPr/>
          <p:nvPr/>
        </p:nvSpPr>
        <p:spPr>
          <a:xfrm>
            <a:off x="3956040" y="8750160"/>
            <a:ext cx="3024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F964136-FD39-4135-BD1F-E1B378F04FE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89080" y="690480"/>
            <a:ext cx="4605120" cy="345456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29880" y="4375080"/>
            <a:ext cx="51195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438" name="灯片编号占位符 3"/>
          <p:cNvSpPr/>
          <p:nvPr/>
        </p:nvSpPr>
        <p:spPr>
          <a:xfrm>
            <a:off x="3956040" y="8750160"/>
            <a:ext cx="3024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3B35A57-230D-4C3A-97B8-A419BC0FF3C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6F10E-0205-46B0-B61B-D876CC50A4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14040" y="406476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42E00-2CC5-44AC-A5A1-128D74F9D7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9720" y="167652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79720" y="40647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72C6A-F7D1-4EDF-A478-6A442032A5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4640" y="167652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5600" y="167652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14040" y="406476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4640" y="406476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5600" y="406476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DBB5C-20F7-44EC-877C-3F8542BC9F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40AD-19E2-4E3A-AD3B-28D1A962E8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8409-88AF-4161-95BC-FFF1361B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0FB9-A9FD-4A48-911A-E21C60A6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79720" y="167652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E898-AB75-40AA-BC47-B05CFD9F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01C7-6704-47F5-95FF-14E84FF76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3D5F-967C-47B9-9643-87C6CB975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79720" y="167652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79BF-BC9E-42DC-91A3-40C11091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DBA36-AF05-4A54-B049-0D32502CC2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9720" y="167652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79720" y="40647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8353-712E-4287-9FB0-B0777EC4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79720" y="167652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6519-8788-40B3-9D6A-7BF5D015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4040" y="406476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90E2-E5CA-4DC2-9792-82FE1D7D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9720" y="167652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79720" y="40647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79AD-CA0E-48DB-A6D7-9F2F1155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64640" y="167652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5600" y="167652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4040" y="406476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64640" y="406476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5600" y="406476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19B3-69A5-4716-A029-D9116FE3D2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60777-A2F7-41B1-A7ED-AAD65EE0A21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5B6C8-500D-4861-9247-C5FD4C309E3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C776D7-1F91-48C4-9DC0-4ACE6AE5106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79720" y="167652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EDE2B-5229-4F44-9E1A-4392DB79F50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10FC5-4151-4923-BE13-3CB710A244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05216-9D95-4D10-858E-24930F9D03D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E2006-5226-476B-866B-C8CED75BA7F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79720" y="167652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2E55D-D420-43BC-9AF9-567DCEF29BA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79720" y="167652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79720" y="40647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726DE-F1A2-47B3-A16B-A849AAC044C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79720" y="167652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685F1-EBF7-4E27-9C29-9B28D100359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914040" y="406476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A09F7-7CB1-4BD1-BC88-F51AC348F26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79720" y="167652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79720" y="40647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F6D25-D924-4232-B9E8-7B30201F551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464640" y="167652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5600" y="167652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914040" y="406476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464640" y="406476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5600" y="406476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255F32-0376-4AE4-BDC8-1820322B6C0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79720" y="167652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AF1CF-42BA-4E7D-AFDA-E3EF3391E5B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79720" y="167652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79720" y="167652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79720" y="167652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779720" y="40647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79720" y="167652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914040" y="406476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79720" y="167652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779720" y="40647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464640" y="167652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15600" y="167652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914040" y="406476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464640" y="406476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15600" y="406476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8E5F-6BF4-46C1-B66C-526CC2247C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69441-F6E4-4E29-B9CF-0F417518EC4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5717-C5CB-44B9-A83A-24B446C2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A04B-31BB-4839-9208-C531F5A3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79720" y="167652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6A5C-2898-4CA2-81F2-86C39AC8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E1CA-D808-49AB-B7A2-917C14CFE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9013-B311-484F-8172-1843CC1F0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79720" y="167652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6F05-1677-46E3-BB68-7FBAF3F0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79720" y="167652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79720" y="40647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5737-9B9A-4576-8B2C-C3995970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79720" y="167652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4990-5ACE-4B4E-813F-1546E29A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914040" y="406476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5C57-44C8-4592-AB25-0C318E9C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79720" y="167652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79720" y="40647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3604-CF58-478B-9578-709021BC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D128E-5E3F-4760-B3DE-A4A9BE898FC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464640" y="167652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15600" y="167652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914040" y="406476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464640" y="406476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15600" y="406476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6492-2B94-4231-AFD6-C3247E3F73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82B9A7-5D9A-4CF8-9D86-3C90635F125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AB0DE5-A613-43ED-A53D-5E15039A6BA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B88EA8-C498-455D-BCDB-2A4A59CBC53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79720" y="167652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A53243-0C18-4F45-B2C0-93A2B53BB0C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182628-5BF3-481E-B8BF-FED3059FBE6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A3472B-9545-4865-A2CA-187AF6660B2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79720" y="167652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ED3DC3-5FBE-411A-877F-42514D1F86F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79720" y="167652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79720" y="40647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5EF3F5-DF7A-4BDE-B693-3A22024A9AC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79720" y="167652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DED60A-BC4E-4BBF-ABF8-1CF1B7C115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167652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67122-4D88-4461-848D-11D9DEC35FE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914040" y="406476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F0A862-D5F8-4385-A77D-BAE5B9A54F2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79720" y="167652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79720" y="40647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2AA2C1-3F8D-4D51-AD93-D46D94D73CA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464640" y="167652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15600" y="167652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914040" y="406476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464640" y="406476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15600" y="406476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5EAD3B-1215-4447-8483-B1EAFDD2C3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9720" y="167652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79720" y="40647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0F5B1-C173-45C9-B46D-67861B6314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9720" y="167652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E376B-1D92-49C2-ADEA-5F9C98BF2B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1012"/>
            </a:gs>
            <a:gs pos="100000">
              <a:srgbClr val="e0e6f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64520" cy="6858000"/>
          </a:xfrm>
          <a:prstGeom prst="rect">
            <a:avLst/>
          </a:prstGeom>
          <a:solidFill>
            <a:srgbClr val="faf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 lvl="1" marL="291960" indent="-17748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 lvl="2" marL="571680" indent="-165240"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 lvl="3" marL="863640" indent="-12708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 lvl="4" marL="1143000" indent="-114120"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 lvl="5" marL="1143000" indent="-1141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 lvl="6" marL="1143000" indent="-1141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5790960" y="6505200"/>
            <a:ext cx="17096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Verdana"/>
              </a:rPr>
              <a:t>©20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zh-CN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.  |   </a:t>
            </a:r>
            <a:fld id="{95C45363-8E6C-4745-A461-ACBC1EB9BA28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1012"/>
            </a:gs>
            <a:gs pos="100000">
              <a:srgbClr val="e0e6f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矩形 8"/>
          <p:cNvSpPr/>
          <p:nvPr/>
        </p:nvSpPr>
        <p:spPr>
          <a:xfrm>
            <a:off x="0" y="0"/>
            <a:ext cx="9164520" cy="6858000"/>
          </a:xfrm>
          <a:prstGeom prst="rect">
            <a:avLst/>
          </a:prstGeom>
          <a:solidFill>
            <a:srgbClr val="faf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矩形 7"/>
          <p:cNvSpPr/>
          <p:nvPr/>
        </p:nvSpPr>
        <p:spPr>
          <a:xfrm>
            <a:off x="0" y="193680"/>
            <a:ext cx="9164520" cy="649440"/>
          </a:xfrm>
          <a:prstGeom prst="rect">
            <a:avLst/>
          </a:prstGeom>
          <a:solidFill>
            <a:srgbClr val="c00000"/>
          </a:solidFill>
          <a:ln w="0">
            <a:noFill/>
          </a:ln>
          <a:effectLst>
            <a:outerShdw dist="38183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" name="Picture 3" descr="D:\Users\yuzhengqing.JIUQI\Desktop\今日工作文档\0511\久其软件.png"/>
          <p:cNvPicPr/>
          <p:nvPr/>
        </p:nvPicPr>
        <p:blipFill>
          <a:blip r:embed="rId2"/>
          <a:stretch/>
        </p:blipFill>
        <p:spPr>
          <a:xfrm>
            <a:off x="-33480" y="114480"/>
            <a:ext cx="2482920" cy="1000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9000"/>
              </a:srgbClr>
            </a:outerShdw>
          </a:effectLst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 lvl="1" marL="291960" indent="-17748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 lvl="2" marL="571680" indent="-165240"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 lvl="3" marL="863640" indent="-12708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 lvl="4" marL="1143000" indent="-114120"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 lvl="5" marL="1143000" indent="-1141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 lvl="6" marL="1143000" indent="-1141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0" y="6627960"/>
            <a:ext cx="103824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A804-5A11-4754-B4DD-CEFCAFE6D3E3}" type="datetime"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8612280" y="6642000"/>
            <a:ext cx="5443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D013-629D-41E9-A096-2FA766283145}" type="slidenum"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4"/>
          <p:cNvSpPr/>
          <p:nvPr/>
        </p:nvSpPr>
        <p:spPr>
          <a:xfrm>
            <a:off x="0" y="0"/>
            <a:ext cx="9164520" cy="6858000"/>
          </a:xfrm>
          <a:prstGeom prst="rect">
            <a:avLst/>
          </a:prstGeom>
          <a:solidFill>
            <a:srgbClr val="faf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0" y="2786040"/>
            <a:ext cx="9144000" cy="1987560"/>
          </a:xfrm>
          <a:prstGeom prst="rect">
            <a:avLst/>
          </a:prstGeom>
          <a:solidFill>
            <a:srgbClr val="c00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圆角矩形 6"/>
          <p:cNvSpPr/>
          <p:nvPr/>
        </p:nvSpPr>
        <p:spPr>
          <a:xfrm>
            <a:off x="7626240" y="2903400"/>
            <a:ext cx="1363680" cy="1752840"/>
          </a:xfrm>
          <a:custGeom>
            <a:avLst/>
            <a:gdLst>
              <a:gd name="textAreaLeft" fmla="*/ 36720 w 1363680"/>
              <a:gd name="textAreaRight" fmla="*/ 1326960 w 1363680"/>
              <a:gd name="textAreaTop" fmla="*/ 36720 h 1752840"/>
              <a:gd name="textAreaBottom" fmla="*/ 1716120 h 1752840"/>
            </a:gdLst>
            <a:ahLst/>
            <a:rect l="textAreaLeft" t="textAreaTop" r="textAreaRight" b="textAreaBottom"/>
            <a:pathLst>
              <a:path w="21600" h="27762">
                <a:moveTo>
                  <a:pt x="1990" y="0"/>
                </a:moveTo>
                <a:arcTo wR="1990" hR="1990" stAng="16200000" swAng="-5400000"/>
                <a:lnTo>
                  <a:pt x="0" y="25772"/>
                </a:lnTo>
                <a:arcTo wR="1990" hR="1990" stAng="10800000" swAng="-5400000"/>
                <a:lnTo>
                  <a:pt x="19610" y="27762"/>
                </a:lnTo>
                <a:arcTo wR="1990" hR="1990" stAng="5400000" swAng="-5400000"/>
                <a:lnTo>
                  <a:pt x="21600" y="1990"/>
                </a:lnTo>
                <a:arcTo wR="1990" hR="1990" stAng="0" swAng="-5400000"/>
                <a:close/>
              </a:path>
            </a:pathLst>
          </a:custGeom>
          <a:solidFill>
            <a:srgbClr val="f8c25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圆角矩形 7"/>
          <p:cNvSpPr/>
          <p:nvPr/>
        </p:nvSpPr>
        <p:spPr>
          <a:xfrm>
            <a:off x="5097600" y="2903400"/>
            <a:ext cx="2377800" cy="1752840"/>
          </a:xfrm>
          <a:prstGeom prst="roundRect">
            <a:avLst>
              <a:gd name="adj" fmla="val 9616"/>
            </a:avLst>
          </a:prstGeom>
          <a:solidFill>
            <a:srgbClr val="f8c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7932600" y="4387680"/>
            <a:ext cx="107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微软雅黑"/>
                <a:ea typeface="微软雅黑"/>
              </a:rPr>
              <a:t>SINCE 1997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 lvl="1" marL="291960" indent="-17748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 lvl="2" marL="571680" indent="-165240"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 lvl="3" marL="863640" indent="-12708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 lvl="4" marL="1143000" indent="-114120"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 lvl="5" marL="1143000" indent="-1141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 lvl="6" marL="1143000" indent="-1141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Num" idx="4"/>
          </p:nvPr>
        </p:nvSpPr>
        <p:spPr>
          <a:xfrm>
            <a:off x="5790960" y="6505200"/>
            <a:ext cx="17096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Verdana"/>
              </a:rPr>
              <a:t>©20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zh-CN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800" spc="-1" strike="noStrike">
                <a:solidFill>
                  <a:srgbClr val="000000"/>
                </a:solidFill>
                <a:latin typeface="Verdana"/>
              </a:rPr>
              <a:t>久其软件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.  |   </a:t>
            </a:r>
            <a:fld id="{B57CB9C2-EBA6-4E1F-BE37-6BD3E9F3FB58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1012"/>
            </a:gs>
            <a:gs pos="100000">
              <a:srgbClr val="e0e6f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 lvl="1" marL="291960" indent="-17748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 lvl="2" marL="571680" indent="-165240"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 lvl="3" marL="863640" indent="-12708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 lvl="4" marL="1143000" indent="-114120"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 lvl="5" marL="1143000" indent="-1141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 lvl="6" marL="1143000" indent="-1141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1012"/>
            </a:gs>
            <a:gs pos="100000">
              <a:srgbClr val="e0e6f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8"/>
          <p:cNvSpPr/>
          <p:nvPr/>
        </p:nvSpPr>
        <p:spPr>
          <a:xfrm>
            <a:off x="0" y="0"/>
            <a:ext cx="9164520" cy="6858000"/>
          </a:xfrm>
          <a:prstGeom prst="rect">
            <a:avLst/>
          </a:prstGeom>
          <a:solidFill>
            <a:srgbClr val="faf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0" y="193680"/>
            <a:ext cx="9164520" cy="649440"/>
          </a:xfrm>
          <a:prstGeom prst="rect">
            <a:avLst/>
          </a:prstGeom>
          <a:solidFill>
            <a:srgbClr val="c00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3" descr="D:\Users\yuzhengqing.JIUQI\Desktop\今日工作文档\0511\久其软件.png"/>
          <p:cNvPicPr/>
          <p:nvPr/>
        </p:nvPicPr>
        <p:blipFill>
          <a:blip r:embed="rId2"/>
          <a:stretch/>
        </p:blipFill>
        <p:spPr>
          <a:xfrm>
            <a:off x="-50760" y="114480"/>
            <a:ext cx="2500200" cy="1000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 lvl="1" marL="291960" indent="-17748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 lvl="2" marL="571680" indent="-165240"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 lvl="3" marL="863640" indent="-12708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 lvl="4" marL="1143000" indent="-114120"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 lvl="5" marL="1143000" indent="-1141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 lvl="6" marL="1143000" indent="-1141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5"/>
          </p:nvPr>
        </p:nvSpPr>
        <p:spPr>
          <a:xfrm>
            <a:off x="0" y="6627960"/>
            <a:ext cx="103824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C7D3-3332-4410-B433-E6E3495AE7C3}" type="datetime"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6"/>
          </p:nvPr>
        </p:nvSpPr>
        <p:spPr>
          <a:xfrm>
            <a:off x="8612280" y="6642000"/>
            <a:ext cx="5443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D2EF-7161-4A61-BA7E-2DDB78DFC2AF}" type="slidenum"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4"/>
          <p:cNvSpPr/>
          <p:nvPr/>
        </p:nvSpPr>
        <p:spPr>
          <a:xfrm>
            <a:off x="0" y="0"/>
            <a:ext cx="9164520" cy="6858000"/>
          </a:xfrm>
          <a:prstGeom prst="rect">
            <a:avLst/>
          </a:prstGeom>
          <a:solidFill>
            <a:srgbClr val="faf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0" y="2786040"/>
            <a:ext cx="9144000" cy="1987560"/>
          </a:xfrm>
          <a:prstGeom prst="rect">
            <a:avLst/>
          </a:prstGeom>
          <a:solidFill>
            <a:srgbClr val="c00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圆角矩形 6"/>
          <p:cNvSpPr/>
          <p:nvPr/>
        </p:nvSpPr>
        <p:spPr>
          <a:xfrm>
            <a:off x="7626240" y="2903400"/>
            <a:ext cx="1363680" cy="1752840"/>
          </a:xfrm>
          <a:custGeom>
            <a:avLst/>
            <a:gdLst>
              <a:gd name="textAreaLeft" fmla="*/ 36720 w 1363680"/>
              <a:gd name="textAreaRight" fmla="*/ 1326960 w 1363680"/>
              <a:gd name="textAreaTop" fmla="*/ 36720 h 1752840"/>
              <a:gd name="textAreaBottom" fmla="*/ 1716120 h 1752840"/>
            </a:gdLst>
            <a:ahLst/>
            <a:rect l="textAreaLeft" t="textAreaTop" r="textAreaRight" b="textAreaBottom"/>
            <a:pathLst>
              <a:path w="21600" h="27762">
                <a:moveTo>
                  <a:pt x="1990" y="0"/>
                </a:moveTo>
                <a:arcTo wR="1990" hR="1990" stAng="16200000" swAng="-5400000"/>
                <a:lnTo>
                  <a:pt x="0" y="25772"/>
                </a:lnTo>
                <a:arcTo wR="1990" hR="1990" stAng="10800000" swAng="-5400000"/>
                <a:lnTo>
                  <a:pt x="19610" y="27762"/>
                </a:lnTo>
                <a:arcTo wR="1990" hR="1990" stAng="5400000" swAng="-5400000"/>
                <a:lnTo>
                  <a:pt x="21600" y="1990"/>
                </a:lnTo>
                <a:arcTo wR="1990" hR="1990" stAng="0" swAng="-5400000"/>
                <a:close/>
              </a:path>
            </a:pathLst>
          </a:custGeom>
          <a:solidFill>
            <a:srgbClr val="f8c25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圆角矩形 7"/>
          <p:cNvSpPr/>
          <p:nvPr/>
        </p:nvSpPr>
        <p:spPr>
          <a:xfrm>
            <a:off x="5097600" y="2903400"/>
            <a:ext cx="2377800" cy="1752840"/>
          </a:xfrm>
          <a:prstGeom prst="roundRect">
            <a:avLst>
              <a:gd name="adj" fmla="val 9616"/>
            </a:avLst>
          </a:prstGeom>
          <a:solidFill>
            <a:srgbClr val="f8c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7932600" y="4387680"/>
            <a:ext cx="107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微软雅黑"/>
                <a:ea typeface="微软雅黑"/>
              </a:rPr>
              <a:t>SINCE 1997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 lvl="1" marL="291960" indent="-17748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 lvl="2" marL="571680" indent="-165240"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 lvl="3" marL="863640" indent="-12708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 lvl="4" marL="1143000" indent="-114120"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 lvl="5" marL="1143000" indent="-1141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 lvl="6" marL="1143000" indent="-1141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ldNum" idx="7"/>
          </p:nvPr>
        </p:nvSpPr>
        <p:spPr>
          <a:xfrm>
            <a:off x="5790960" y="6505200"/>
            <a:ext cx="17096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Verdana"/>
              </a:rPr>
              <a:t>©20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zh-CN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800" spc="-1" strike="noStrike">
                <a:solidFill>
                  <a:srgbClr val="000000"/>
                </a:solidFill>
                <a:latin typeface="Verdana"/>
              </a:rPr>
              <a:t>久其软件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.  |   </a:t>
            </a:r>
            <a:fld id="{2374445E-6ED9-46AD-9DD9-9DB370BBC260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irefox.com.cn/download/" TargetMode="External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H:\20101130 董老师任务\参考资料\宣传册图片格式\毛笔刷 副本 拷贝.png"/>
          <p:cNvPicPr/>
          <p:nvPr/>
        </p:nvPicPr>
        <p:blipFill>
          <a:blip r:embed="rId1"/>
          <a:stretch/>
        </p:blipFill>
        <p:spPr>
          <a:xfrm>
            <a:off x="8720280" y="0"/>
            <a:ext cx="423720" cy="61293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673200" y="217440"/>
            <a:ext cx="779400" cy="2024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7070"/>
            </a:outerShdw>
          </a:effectLst>
        </p:spPr>
      </p:pic>
      <p:pic>
        <p:nvPicPr>
          <p:cNvPr id="256" name="Picture 4" descr=""/>
          <p:cNvPicPr/>
          <p:nvPr/>
        </p:nvPicPr>
        <p:blipFill>
          <a:blip r:embed="rId3"/>
          <a:stretch/>
        </p:blipFill>
        <p:spPr>
          <a:xfrm>
            <a:off x="165240" y="407880"/>
            <a:ext cx="523800" cy="8845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5"/>
          <p:cNvSpPr/>
          <p:nvPr/>
        </p:nvSpPr>
        <p:spPr>
          <a:xfrm>
            <a:off x="522360" y="2646360"/>
            <a:ext cx="8028000" cy="1209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企业财务会计决算报表网络报送系统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180880" y="299520"/>
            <a:ext cx="688500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数据审核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9" name="灯片编号占位符 3"/>
          <p:cNvSpPr/>
          <p:nvPr/>
        </p:nvSpPr>
        <p:spPr>
          <a:xfrm>
            <a:off x="8612280" y="6642000"/>
            <a:ext cx="544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19AC-1962-46E9-9D7C-631A35F03D97}" type="slidenum"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55600" y="1757520"/>
            <a:ext cx="88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步骤：点击 “审核”下拉菜单相关数据审核功能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包括数据审核、表完整性性检查、与上年数核对、枚举字典检查、户数核对和查询模板审核。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331" name="Picture 4" descr="E:\20101130 董老师任务\ff\1285804566504_zcool.com.cn\未标题-2.png"/>
          <p:cNvPicPr/>
          <p:nvPr/>
        </p:nvPicPr>
        <p:blipFill>
          <a:blip r:embed="rId1"/>
          <a:stretch/>
        </p:blipFill>
        <p:spPr>
          <a:xfrm>
            <a:off x="560520" y="878040"/>
            <a:ext cx="914400" cy="950760"/>
          </a:xfrm>
          <a:prstGeom prst="rect">
            <a:avLst/>
          </a:prstGeom>
          <a:ln w="0">
            <a:noFill/>
          </a:ln>
        </p:spPr>
      </p:pic>
      <p:sp>
        <p:nvSpPr>
          <p:cNvPr id="332" name="TextBox 6"/>
          <p:cNvSpPr/>
          <p:nvPr/>
        </p:nvSpPr>
        <p:spPr>
          <a:xfrm>
            <a:off x="1099440" y="1120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数据审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图片 1" descr=""/>
          <p:cNvPicPr/>
          <p:nvPr/>
        </p:nvPicPr>
        <p:blipFill>
          <a:blip r:embed="rId2"/>
          <a:stretch/>
        </p:blipFill>
        <p:spPr>
          <a:xfrm>
            <a:off x="539640" y="3048120"/>
            <a:ext cx="8156520" cy="3395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22280" y="1001880"/>
            <a:ext cx="8431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699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1.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审核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-&gt;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数据审核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: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可审核所有上报企业的数据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ts val="3699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2.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录入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-&gt;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数据录入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-&gt;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全审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: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可审核选中企业的所有数据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ts val="3699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微软雅黑"/>
              </a:rPr>
              <a:t>管理单位进行所有审核并通过后则点击确认</a:t>
            </a:r>
            <a:r>
              <a:rPr b="0" lang="en-US" sz="2200" spc="-1" strike="noStrike">
                <a:solidFill>
                  <a:srgbClr val="ff0000"/>
                </a:solidFill>
                <a:latin typeface="微软雅黑"/>
              </a:rPr>
              <a:t>,</a:t>
            </a:r>
            <a:r>
              <a:rPr b="0" lang="zh-CN" sz="2200" spc="-1" strike="noStrike">
                <a:solidFill>
                  <a:srgbClr val="ff0000"/>
                </a:solidFill>
                <a:latin typeface="微软雅黑"/>
              </a:rPr>
              <a:t>并填写确认意见</a:t>
            </a:r>
            <a:r>
              <a:rPr b="0" lang="en-US" sz="2200" spc="-1" strike="noStrike">
                <a:solidFill>
                  <a:srgbClr val="ff0000"/>
                </a:solidFill>
                <a:latin typeface="微软雅黑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ts val="3699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微软雅黑"/>
              </a:rPr>
              <a:t>数据如果有错误则点击退回</a:t>
            </a:r>
            <a:r>
              <a:rPr b="0" lang="en-US" sz="2200" spc="-1" strike="noStrike">
                <a:solidFill>
                  <a:srgbClr val="ff0000"/>
                </a:solidFill>
                <a:latin typeface="微软雅黑"/>
              </a:rPr>
              <a:t>,</a:t>
            </a:r>
            <a:r>
              <a:rPr b="0" lang="zh-CN" sz="2200" spc="-1" strike="noStrike">
                <a:solidFill>
                  <a:srgbClr val="ff0000"/>
                </a:solidFill>
                <a:latin typeface="微软雅黑"/>
              </a:rPr>
              <a:t>并填写退回意见</a:t>
            </a:r>
            <a:r>
              <a:rPr b="0" lang="en-US" sz="2200" spc="-1" strike="noStrike">
                <a:solidFill>
                  <a:srgbClr val="ff0000"/>
                </a:solidFill>
                <a:latin typeface="微软雅黑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ts val="3699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3.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审核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&gt;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审核结果查看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180880" y="299520"/>
            <a:ext cx="688500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数据审核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6" name="日期占位符 3"/>
          <p:cNvSpPr/>
          <p:nvPr/>
        </p:nvSpPr>
        <p:spPr>
          <a:xfrm>
            <a:off x="0" y="6627960"/>
            <a:ext cx="103824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A2DE-A4BF-4ECC-B338-E87CB94D13A6}" type="datetime"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6/7/31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灯片编号占位符 4"/>
          <p:cNvSpPr/>
          <p:nvPr/>
        </p:nvSpPr>
        <p:spPr>
          <a:xfrm>
            <a:off x="8612280" y="6642000"/>
            <a:ext cx="544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1394-24BC-47AA-AC5D-691C2E76DB4F}" type="slidenum"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图片 3" descr=""/>
          <p:cNvPicPr/>
          <p:nvPr/>
        </p:nvPicPr>
        <p:blipFill>
          <a:blip r:embed="rId1"/>
          <a:stretch/>
        </p:blipFill>
        <p:spPr>
          <a:xfrm>
            <a:off x="531720" y="3925800"/>
            <a:ext cx="8080560" cy="2379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441360" y="1166760"/>
            <a:ext cx="83865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</a:rPr>
              <a:t>逻辑性错误：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红色，不允许出错，特殊情况请联系所属财政或久其软件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</a:rPr>
              <a:t>合理性错误：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黄色，如情况属实，可填写出错说明后实现上报，请认真填写出错说明；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180880" y="299520"/>
            <a:ext cx="688500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数据审核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0" y="6627960"/>
            <a:ext cx="103824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39D4-5FB7-4B85-9282-EA4D635DD4C1}" type="datetime"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6/7/31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灯片编号占位符 4"/>
          <p:cNvSpPr/>
          <p:nvPr/>
        </p:nvSpPr>
        <p:spPr>
          <a:xfrm>
            <a:off x="8612280" y="6642000"/>
            <a:ext cx="544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8E1F-4149-406C-B5C6-014233C8A4BD}" type="slidenum"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图片 1" descr=""/>
          <p:cNvPicPr/>
          <p:nvPr/>
        </p:nvPicPr>
        <p:blipFill>
          <a:blip r:embed="rId1"/>
          <a:stretch/>
        </p:blipFill>
        <p:spPr>
          <a:xfrm>
            <a:off x="519120" y="3614760"/>
            <a:ext cx="809316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180880" y="299520"/>
            <a:ext cx="688500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户数核对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0" y="6627960"/>
            <a:ext cx="103824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58A3-FD70-4F7B-A803-81202B3AD7A3}" type="datetime"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6/7/31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灯片编号占位符 4"/>
          <p:cNvSpPr/>
          <p:nvPr/>
        </p:nvSpPr>
        <p:spPr>
          <a:xfrm>
            <a:off x="8612280" y="6642000"/>
            <a:ext cx="544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4429-DB7F-4ECE-923B-3011A4963D21}" type="slidenum"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4" descr="E:\20101130 董老师任务\ff\1285804566504_zcool.com.cn\未标题-2.png"/>
          <p:cNvPicPr/>
          <p:nvPr/>
        </p:nvPicPr>
        <p:blipFill>
          <a:blip r:embed="rId1"/>
          <a:stretch/>
        </p:blipFill>
        <p:spPr>
          <a:xfrm>
            <a:off x="560520" y="878040"/>
            <a:ext cx="914400" cy="950760"/>
          </a:xfrm>
          <a:prstGeom prst="rect">
            <a:avLst/>
          </a:prstGeom>
          <a:ln w="0">
            <a:noFill/>
          </a:ln>
        </p:spPr>
      </p:pic>
      <p:sp>
        <p:nvSpPr>
          <p:cNvPr id="348" name="TextBox 6"/>
          <p:cNvSpPr/>
          <p:nvPr/>
        </p:nvSpPr>
        <p:spPr>
          <a:xfrm>
            <a:off x="1099440" y="1120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户数核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文本框 8"/>
          <p:cNvSpPr/>
          <p:nvPr/>
        </p:nvSpPr>
        <p:spPr>
          <a:xfrm>
            <a:off x="2440800" y="512460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减少单位：填写减少原因并保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能出错单位：不允许有任何数据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核对结果统计：企业增减变化情况应与实际情况一致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图片 3" descr=""/>
          <p:cNvPicPr/>
          <p:nvPr/>
        </p:nvPicPr>
        <p:blipFill>
          <a:blip r:embed="rId2"/>
          <a:stretch/>
        </p:blipFill>
        <p:spPr>
          <a:xfrm>
            <a:off x="633240" y="1757520"/>
            <a:ext cx="7979040" cy="3254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139680" y="1333440"/>
            <a:ext cx="8220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为进一步提高企业决算数据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质量，请使用查询审核模板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进行分析，如发现数据填报不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合理的问题，应核实情况，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有错改正，无错保留并说明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原因。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步骤：应用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-&gt;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综合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过录查询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180880" y="299520"/>
            <a:ext cx="688500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查询模板审核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3" name="灯片编号占位符 3"/>
          <p:cNvSpPr/>
          <p:nvPr/>
        </p:nvSpPr>
        <p:spPr>
          <a:xfrm>
            <a:off x="8612280" y="6642000"/>
            <a:ext cx="544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783A-2535-4676-A94F-83CFFA7FCF02}" type="slidenum"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图片 4" descr=""/>
          <p:cNvPicPr/>
          <p:nvPr/>
        </p:nvPicPr>
        <p:blipFill>
          <a:blip r:embed="rId1"/>
          <a:stretch/>
        </p:blipFill>
        <p:spPr>
          <a:xfrm>
            <a:off x="3870360" y="985680"/>
            <a:ext cx="5014800" cy="5267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180880" y="299520"/>
            <a:ext cx="6885000" cy="460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29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目录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356" name="Picture 5" descr="D:\0 培训中心\20101130 董老师任务\3 图片资料\墨迹\08.PNG"/>
          <p:cNvPicPr/>
          <p:nvPr/>
        </p:nvPicPr>
        <p:blipFill>
          <a:blip r:embed="rId1"/>
          <a:stretch/>
        </p:blipFill>
        <p:spPr>
          <a:xfrm>
            <a:off x="2462040" y="1347840"/>
            <a:ext cx="4343400" cy="5666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D:\0 培训中心\20101130 董老师任务\3 图片资料\墨迹\07.PNG"/>
          <p:cNvPicPr/>
          <p:nvPr/>
        </p:nvPicPr>
        <p:blipFill>
          <a:blip r:embed="rId2"/>
          <a:stretch/>
        </p:blipFill>
        <p:spPr>
          <a:xfrm>
            <a:off x="1817640" y="1322280"/>
            <a:ext cx="644400" cy="6397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D:\0 培训中心\20101130 董老师任务\3 图片资料\墨迹\07.PNG"/>
          <p:cNvPicPr/>
          <p:nvPr/>
        </p:nvPicPr>
        <p:blipFill>
          <a:blip r:embed="rId3"/>
          <a:stretch/>
        </p:blipFill>
        <p:spPr>
          <a:xfrm>
            <a:off x="6767640" y="1322280"/>
            <a:ext cx="645840" cy="639720"/>
          </a:xfrm>
          <a:prstGeom prst="rect">
            <a:avLst/>
          </a:prstGeom>
          <a:ln w="0">
            <a:noFill/>
          </a:ln>
        </p:spPr>
      </p:pic>
      <p:sp>
        <p:nvSpPr>
          <p:cNvPr id="359" name="文本框 2"/>
          <p:cNvSpPr/>
          <p:nvPr/>
        </p:nvSpPr>
        <p:spPr>
          <a:xfrm>
            <a:off x="3559320" y="1293840"/>
            <a:ext cx="43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系统简介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文本框 53"/>
          <p:cNvSpPr/>
          <p:nvPr/>
        </p:nvSpPr>
        <p:spPr>
          <a:xfrm>
            <a:off x="3559320" y="2716200"/>
            <a:ext cx="34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据录入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文本框 54"/>
          <p:cNvSpPr/>
          <p:nvPr/>
        </p:nvSpPr>
        <p:spPr>
          <a:xfrm>
            <a:off x="3559320" y="4051440"/>
            <a:ext cx="27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据汇总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文本框 55"/>
          <p:cNvSpPr/>
          <p:nvPr/>
        </p:nvSpPr>
        <p:spPr>
          <a:xfrm>
            <a:off x="3451320" y="5378400"/>
            <a:ext cx="27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据上报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Picture 5" descr="D:\0 培训中心\20101130 董老师任务\3 图片资料\墨迹\08.PNG"/>
          <p:cNvPicPr/>
          <p:nvPr/>
        </p:nvPicPr>
        <p:blipFill>
          <a:blip r:embed="rId4"/>
          <a:stretch/>
        </p:blipFill>
        <p:spPr>
          <a:xfrm>
            <a:off x="2475000" y="2739960"/>
            <a:ext cx="4281480" cy="566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D:\0 培训中心\20101130 董老师任务\3 图片资料\墨迹\07.PNG"/>
          <p:cNvPicPr/>
          <p:nvPr/>
        </p:nvPicPr>
        <p:blipFill>
          <a:blip r:embed="rId5"/>
          <a:stretch/>
        </p:blipFill>
        <p:spPr>
          <a:xfrm>
            <a:off x="1814400" y="2698920"/>
            <a:ext cx="646200" cy="6397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D:\0 培训中心\20101130 董老师任务\3 图片资料\墨迹\07.PNG"/>
          <p:cNvPicPr/>
          <p:nvPr/>
        </p:nvPicPr>
        <p:blipFill>
          <a:blip r:embed="rId6"/>
          <a:stretch/>
        </p:blipFill>
        <p:spPr>
          <a:xfrm>
            <a:off x="6767640" y="2698920"/>
            <a:ext cx="645840" cy="6397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D:\0 培训中心\20101130 董老师任务\3 图片资料\墨迹\08.PNG"/>
          <p:cNvPicPr/>
          <p:nvPr/>
        </p:nvPicPr>
        <p:blipFill>
          <a:blip r:embed="rId7"/>
          <a:stretch/>
        </p:blipFill>
        <p:spPr>
          <a:xfrm>
            <a:off x="2462040" y="4073400"/>
            <a:ext cx="4343400" cy="567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D:\0 培训中心\20101130 董老师任务\3 图片资料\墨迹\07.PNG"/>
          <p:cNvPicPr/>
          <p:nvPr/>
        </p:nvPicPr>
        <p:blipFill>
          <a:blip r:embed="rId8"/>
          <a:stretch/>
        </p:blipFill>
        <p:spPr>
          <a:xfrm>
            <a:off x="1814400" y="4067280"/>
            <a:ext cx="646200" cy="6397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" descr="D:\0 培训中心\20101130 董老师任务\3 图片资料\墨迹\07.PNG"/>
          <p:cNvPicPr/>
          <p:nvPr/>
        </p:nvPicPr>
        <p:blipFill>
          <a:blip r:embed="rId9"/>
          <a:stretch/>
        </p:blipFill>
        <p:spPr>
          <a:xfrm>
            <a:off x="6767640" y="4057560"/>
            <a:ext cx="645840" cy="6397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D:\0 培训中心\20101130 董老师任务\3 图片资料\墨迹\08.PNG"/>
          <p:cNvPicPr/>
          <p:nvPr/>
        </p:nvPicPr>
        <p:blipFill>
          <a:blip r:embed="rId10"/>
          <a:stretch/>
        </p:blipFill>
        <p:spPr>
          <a:xfrm>
            <a:off x="2414520" y="5435640"/>
            <a:ext cx="4341960" cy="5666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4" descr="D:\0 培训中心\20101130 董老师任务\3 图片资料\墨迹\07.PNG"/>
          <p:cNvPicPr/>
          <p:nvPr/>
        </p:nvPicPr>
        <p:blipFill>
          <a:blip r:embed="rId11"/>
          <a:stretch/>
        </p:blipFill>
        <p:spPr>
          <a:xfrm>
            <a:off x="1814400" y="5378400"/>
            <a:ext cx="646200" cy="6397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D:\0 培训中心\20101130 董老师任务\3 图片资料\墨迹\07.PNG"/>
          <p:cNvPicPr/>
          <p:nvPr/>
        </p:nvPicPr>
        <p:blipFill>
          <a:blip r:embed="rId12"/>
          <a:stretch/>
        </p:blipFill>
        <p:spPr>
          <a:xfrm>
            <a:off x="6767640" y="5398920"/>
            <a:ext cx="645840" cy="640080"/>
          </a:xfrm>
          <a:prstGeom prst="rect">
            <a:avLst/>
          </a:prstGeom>
          <a:ln w="0">
            <a:noFill/>
          </a:ln>
        </p:spPr>
      </p:pic>
      <p:sp>
        <p:nvSpPr>
          <p:cNvPr id="372" name="右箭头 21"/>
          <p:cNvSpPr/>
          <p:nvPr/>
        </p:nvSpPr>
        <p:spPr>
          <a:xfrm>
            <a:off x="590400" y="4202280"/>
            <a:ext cx="976320" cy="309240"/>
          </a:xfrm>
          <a:prstGeom prst="rightArrow">
            <a:avLst>
              <a:gd name="adj1" fmla="val 50000"/>
              <a:gd name="adj2" fmla="val 50047"/>
            </a:avLst>
          </a:prstGeom>
          <a:solidFill>
            <a:srgbClr val="c00000"/>
          </a:solidFill>
          <a:ln w="31680">
            <a:solidFill>
              <a:srgbClr val="c00000">
                <a:alpha val="8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651960" y="1353960"/>
            <a:ext cx="8139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</a:rPr>
              <a:t>节点汇总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节点汇总完全按照单位树形级次进行数据的汇总，即由下级单位数据汇总获得上级单位数据。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步骤：汇总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-&gt;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节点汇总（汇总所有下级）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“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数据录入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”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功能界面下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“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单位应用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”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下拉菜单的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“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汇总所有下级”功能与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“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节点汇总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”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功能相同。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微软雅黑"/>
              </a:rPr>
              <a:t>集团企业注意汇总方向选择是汇总至集团或是调整到差额表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</a:rPr>
              <a:t>选择汇总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对选定的单位进行简单加总，可根据实际需要使用。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180880" y="299520"/>
            <a:ext cx="688500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数据汇总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5" name="灯片编号占位符 3"/>
          <p:cNvSpPr/>
          <p:nvPr/>
        </p:nvSpPr>
        <p:spPr>
          <a:xfrm>
            <a:off x="8612280" y="6642000"/>
            <a:ext cx="544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6EBD-7E61-4339-A459-433D9A57F80F}" type="slidenum"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4" descr="E:\20101130 董老师任务\ff\1285804566504_zcool.com.cn\未标题-2.png"/>
          <p:cNvPicPr/>
          <p:nvPr/>
        </p:nvPicPr>
        <p:blipFill>
          <a:blip r:embed="rId1"/>
          <a:stretch/>
        </p:blipFill>
        <p:spPr>
          <a:xfrm>
            <a:off x="560520" y="878040"/>
            <a:ext cx="914400" cy="950760"/>
          </a:xfrm>
          <a:prstGeom prst="rect">
            <a:avLst/>
          </a:prstGeom>
          <a:ln w="0">
            <a:noFill/>
          </a:ln>
        </p:spPr>
      </p:pic>
      <p:sp>
        <p:nvSpPr>
          <p:cNvPr id="377" name="TextBox 6"/>
          <p:cNvSpPr/>
          <p:nvPr/>
        </p:nvSpPr>
        <p:spPr>
          <a:xfrm>
            <a:off x="1099440" y="1120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数据汇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88520" y="1293840"/>
            <a:ext cx="821556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699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数据全部审核通过后才能上报。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ts val="3699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企业数据上报后将不能修改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企业如需要修改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需上级单位退回上报数据后才能修改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ts val="3699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汇总单位审核数据后需要进行数据通过的确认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下级企业可查看确认说明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ts val="3699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数据录入页面正上方可查看当前企业上报状态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.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</a:rPr>
              <a:t>企业名称是黑色表示未上报，红色表示已上报，绿色表示已确认，蓝色表示已退回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180880" y="299520"/>
            <a:ext cx="688500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数据上报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0" y="6627960"/>
            <a:ext cx="103824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4451-93C9-48FA-A8CA-B04369ACF715}" type="datetime"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6/7/31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灯片编号占位符 4"/>
          <p:cNvSpPr/>
          <p:nvPr/>
        </p:nvSpPr>
        <p:spPr>
          <a:xfrm>
            <a:off x="8612280" y="6642000"/>
            <a:ext cx="544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87C5-EA14-4933-B6A3-01D5EE302F0B}" type="slidenum"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71240" y="992160"/>
            <a:ext cx="835164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699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管理单位所辖的企业必须都上报后才能汇总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汇总完成后本级才能上报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ts val="3699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上报顺序：企业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1-&gt;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二级财政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1-&gt;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一级财政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ts val="3699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如果数据要进行退回，跟上级顺序是反的，同样的是逐级进行。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ts val="3699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180880" y="299520"/>
            <a:ext cx="688500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数据上报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0" y="6627960"/>
            <a:ext cx="103824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1BCC-1230-45BF-961F-730217389180}" type="datetime"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6/7/31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灯片编号占位符 4"/>
          <p:cNvSpPr/>
          <p:nvPr/>
        </p:nvSpPr>
        <p:spPr>
          <a:xfrm>
            <a:off x="8612280" y="6642000"/>
            <a:ext cx="544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21AB-EFA3-4375-8BB9-A5290BD5693C}" type="slidenum"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Picture 6" descr=""/>
          <p:cNvPicPr/>
          <p:nvPr/>
        </p:nvPicPr>
        <p:blipFill>
          <a:blip r:embed="rId1"/>
          <a:stretch/>
        </p:blipFill>
        <p:spPr>
          <a:xfrm>
            <a:off x="1228680" y="3052800"/>
            <a:ext cx="6835680" cy="3192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180880" y="299520"/>
            <a:ext cx="6885000" cy="460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29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目录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388" name="Picture 5" descr="D:\0 培训中心\20101130 董老师任务\3 图片资料\墨迹\08.PNG"/>
          <p:cNvPicPr/>
          <p:nvPr/>
        </p:nvPicPr>
        <p:blipFill>
          <a:blip r:embed="rId1"/>
          <a:stretch/>
        </p:blipFill>
        <p:spPr>
          <a:xfrm>
            <a:off x="2462040" y="1347840"/>
            <a:ext cx="4343400" cy="5666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D:\0 培训中心\20101130 董老师任务\3 图片资料\墨迹\07.PNG"/>
          <p:cNvPicPr/>
          <p:nvPr/>
        </p:nvPicPr>
        <p:blipFill>
          <a:blip r:embed="rId2"/>
          <a:stretch/>
        </p:blipFill>
        <p:spPr>
          <a:xfrm>
            <a:off x="1817640" y="1322280"/>
            <a:ext cx="644400" cy="6397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" descr="D:\0 培训中心\20101130 董老师任务\3 图片资料\墨迹\07.PNG"/>
          <p:cNvPicPr/>
          <p:nvPr/>
        </p:nvPicPr>
        <p:blipFill>
          <a:blip r:embed="rId3"/>
          <a:stretch/>
        </p:blipFill>
        <p:spPr>
          <a:xfrm>
            <a:off x="6767640" y="1322280"/>
            <a:ext cx="645840" cy="639720"/>
          </a:xfrm>
          <a:prstGeom prst="rect">
            <a:avLst/>
          </a:prstGeom>
          <a:ln w="0">
            <a:noFill/>
          </a:ln>
        </p:spPr>
      </p:pic>
      <p:sp>
        <p:nvSpPr>
          <p:cNvPr id="391" name="文本框 2"/>
          <p:cNvSpPr/>
          <p:nvPr/>
        </p:nvSpPr>
        <p:spPr>
          <a:xfrm>
            <a:off x="3559320" y="1293840"/>
            <a:ext cx="43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系统简介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文本框 53"/>
          <p:cNvSpPr/>
          <p:nvPr/>
        </p:nvSpPr>
        <p:spPr>
          <a:xfrm>
            <a:off x="3559320" y="2716200"/>
            <a:ext cx="34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据录入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文本框 54"/>
          <p:cNvSpPr/>
          <p:nvPr/>
        </p:nvSpPr>
        <p:spPr>
          <a:xfrm>
            <a:off x="3559320" y="4051440"/>
            <a:ext cx="27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据汇总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文本框 55"/>
          <p:cNvSpPr/>
          <p:nvPr/>
        </p:nvSpPr>
        <p:spPr>
          <a:xfrm>
            <a:off x="3451320" y="5378400"/>
            <a:ext cx="27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据上报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Picture 5" descr="D:\0 培训中心\20101130 董老师任务\3 图片资料\墨迹\08.PNG"/>
          <p:cNvPicPr/>
          <p:nvPr/>
        </p:nvPicPr>
        <p:blipFill>
          <a:blip r:embed="rId4"/>
          <a:stretch/>
        </p:blipFill>
        <p:spPr>
          <a:xfrm>
            <a:off x="2475000" y="2739960"/>
            <a:ext cx="4281480" cy="5666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4" descr="D:\0 培训中心\20101130 董老师任务\3 图片资料\墨迹\07.PNG"/>
          <p:cNvPicPr/>
          <p:nvPr/>
        </p:nvPicPr>
        <p:blipFill>
          <a:blip r:embed="rId5"/>
          <a:stretch/>
        </p:blipFill>
        <p:spPr>
          <a:xfrm>
            <a:off x="1814400" y="2698920"/>
            <a:ext cx="646200" cy="6397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" descr="D:\0 培训中心\20101130 董老师任务\3 图片资料\墨迹\07.PNG"/>
          <p:cNvPicPr/>
          <p:nvPr/>
        </p:nvPicPr>
        <p:blipFill>
          <a:blip r:embed="rId6"/>
          <a:stretch/>
        </p:blipFill>
        <p:spPr>
          <a:xfrm>
            <a:off x="6767640" y="2698920"/>
            <a:ext cx="645840" cy="6397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5" descr="D:\0 培训中心\20101130 董老师任务\3 图片资料\墨迹\08.PNG"/>
          <p:cNvPicPr/>
          <p:nvPr/>
        </p:nvPicPr>
        <p:blipFill>
          <a:blip r:embed="rId7"/>
          <a:stretch/>
        </p:blipFill>
        <p:spPr>
          <a:xfrm>
            <a:off x="2462040" y="4073400"/>
            <a:ext cx="4343400" cy="5670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D:\0 培训中心\20101130 董老师任务\3 图片资料\墨迹\07.PNG"/>
          <p:cNvPicPr/>
          <p:nvPr/>
        </p:nvPicPr>
        <p:blipFill>
          <a:blip r:embed="rId8"/>
          <a:stretch/>
        </p:blipFill>
        <p:spPr>
          <a:xfrm>
            <a:off x="1814400" y="4067280"/>
            <a:ext cx="646200" cy="6397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D:\0 培训中心\20101130 董老师任务\3 图片资料\墨迹\07.PNG"/>
          <p:cNvPicPr/>
          <p:nvPr/>
        </p:nvPicPr>
        <p:blipFill>
          <a:blip r:embed="rId9"/>
          <a:stretch/>
        </p:blipFill>
        <p:spPr>
          <a:xfrm>
            <a:off x="6767640" y="4057560"/>
            <a:ext cx="645840" cy="6397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D:\0 培训中心\20101130 董老师任务\3 图片资料\墨迹\08.PNG"/>
          <p:cNvPicPr/>
          <p:nvPr/>
        </p:nvPicPr>
        <p:blipFill>
          <a:blip r:embed="rId10"/>
          <a:stretch/>
        </p:blipFill>
        <p:spPr>
          <a:xfrm>
            <a:off x="2414520" y="5435640"/>
            <a:ext cx="4341960" cy="5666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D:\0 培训中心\20101130 董老师任务\3 图片资料\墨迹\07.PNG"/>
          <p:cNvPicPr/>
          <p:nvPr/>
        </p:nvPicPr>
        <p:blipFill>
          <a:blip r:embed="rId11"/>
          <a:stretch/>
        </p:blipFill>
        <p:spPr>
          <a:xfrm>
            <a:off x="1814400" y="5378400"/>
            <a:ext cx="646200" cy="639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" descr="D:\0 培训中心\20101130 董老师任务\3 图片资料\墨迹\07.PNG"/>
          <p:cNvPicPr/>
          <p:nvPr/>
        </p:nvPicPr>
        <p:blipFill>
          <a:blip r:embed="rId12"/>
          <a:stretch/>
        </p:blipFill>
        <p:spPr>
          <a:xfrm>
            <a:off x="6767640" y="5398920"/>
            <a:ext cx="645840" cy="640080"/>
          </a:xfrm>
          <a:prstGeom prst="rect">
            <a:avLst/>
          </a:prstGeom>
          <a:ln w="0">
            <a:noFill/>
          </a:ln>
        </p:spPr>
      </p:pic>
      <p:sp>
        <p:nvSpPr>
          <p:cNvPr id="404" name="右箭头 21"/>
          <p:cNvSpPr/>
          <p:nvPr/>
        </p:nvSpPr>
        <p:spPr>
          <a:xfrm>
            <a:off x="536400" y="5562720"/>
            <a:ext cx="976320" cy="31104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c00000"/>
          </a:solidFill>
          <a:ln w="31680">
            <a:solidFill>
              <a:srgbClr val="c00000">
                <a:alpha val="8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0880" y="299520"/>
            <a:ext cx="6885000" cy="460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29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目录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259" name="Picture 5" descr="D:\0 培训中心\20101130 董老师任务\3 图片资料\墨迹\08.PNG"/>
          <p:cNvPicPr/>
          <p:nvPr/>
        </p:nvPicPr>
        <p:blipFill>
          <a:blip r:embed="rId1"/>
          <a:stretch/>
        </p:blipFill>
        <p:spPr>
          <a:xfrm>
            <a:off x="2462040" y="1347840"/>
            <a:ext cx="4343400" cy="5666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D:\0 培训中心\20101130 董老师任务\3 图片资料\墨迹\07.PNG"/>
          <p:cNvPicPr/>
          <p:nvPr/>
        </p:nvPicPr>
        <p:blipFill>
          <a:blip r:embed="rId2"/>
          <a:stretch/>
        </p:blipFill>
        <p:spPr>
          <a:xfrm>
            <a:off x="1817640" y="1322280"/>
            <a:ext cx="644400" cy="6397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D:\0 培训中心\20101130 董老师任务\3 图片资料\墨迹\07.PNG"/>
          <p:cNvPicPr/>
          <p:nvPr/>
        </p:nvPicPr>
        <p:blipFill>
          <a:blip r:embed="rId3"/>
          <a:stretch/>
        </p:blipFill>
        <p:spPr>
          <a:xfrm>
            <a:off x="6767640" y="1322280"/>
            <a:ext cx="645840" cy="639720"/>
          </a:xfrm>
          <a:prstGeom prst="rect">
            <a:avLst/>
          </a:prstGeom>
          <a:ln w="0">
            <a:noFill/>
          </a:ln>
        </p:spPr>
      </p:pic>
      <p:sp>
        <p:nvSpPr>
          <p:cNvPr id="262" name="文本框 2"/>
          <p:cNvSpPr/>
          <p:nvPr/>
        </p:nvSpPr>
        <p:spPr>
          <a:xfrm>
            <a:off x="3559320" y="1293840"/>
            <a:ext cx="43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系统简介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文本框 53"/>
          <p:cNvSpPr/>
          <p:nvPr/>
        </p:nvSpPr>
        <p:spPr>
          <a:xfrm>
            <a:off x="3559320" y="2716200"/>
            <a:ext cx="34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据录入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文本框 54"/>
          <p:cNvSpPr/>
          <p:nvPr/>
        </p:nvSpPr>
        <p:spPr>
          <a:xfrm>
            <a:off x="3559320" y="4051440"/>
            <a:ext cx="27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据汇总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文本框 55"/>
          <p:cNvSpPr/>
          <p:nvPr/>
        </p:nvSpPr>
        <p:spPr>
          <a:xfrm>
            <a:off x="3451320" y="5378400"/>
            <a:ext cx="27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据上报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5" descr="D:\0 培训中心\20101130 董老师任务\3 图片资料\墨迹\08.PNG"/>
          <p:cNvPicPr/>
          <p:nvPr/>
        </p:nvPicPr>
        <p:blipFill>
          <a:blip r:embed="rId4"/>
          <a:stretch/>
        </p:blipFill>
        <p:spPr>
          <a:xfrm>
            <a:off x="2475000" y="2739960"/>
            <a:ext cx="4281480" cy="5666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D:\0 培训中心\20101130 董老师任务\3 图片资料\墨迹\07.PNG"/>
          <p:cNvPicPr/>
          <p:nvPr/>
        </p:nvPicPr>
        <p:blipFill>
          <a:blip r:embed="rId5"/>
          <a:stretch/>
        </p:blipFill>
        <p:spPr>
          <a:xfrm>
            <a:off x="1814400" y="2698920"/>
            <a:ext cx="646200" cy="6397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D:\0 培训中心\20101130 董老师任务\3 图片资料\墨迹\07.PNG"/>
          <p:cNvPicPr/>
          <p:nvPr/>
        </p:nvPicPr>
        <p:blipFill>
          <a:blip r:embed="rId6"/>
          <a:stretch/>
        </p:blipFill>
        <p:spPr>
          <a:xfrm>
            <a:off x="6767640" y="2698920"/>
            <a:ext cx="645840" cy="639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D:\0 培训中心\20101130 董老师任务\3 图片资料\墨迹\08.PNG"/>
          <p:cNvPicPr/>
          <p:nvPr/>
        </p:nvPicPr>
        <p:blipFill>
          <a:blip r:embed="rId7"/>
          <a:stretch/>
        </p:blipFill>
        <p:spPr>
          <a:xfrm>
            <a:off x="2462040" y="4073400"/>
            <a:ext cx="4343400" cy="567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D:\0 培训中心\20101130 董老师任务\3 图片资料\墨迹\07.PNG"/>
          <p:cNvPicPr/>
          <p:nvPr/>
        </p:nvPicPr>
        <p:blipFill>
          <a:blip r:embed="rId8"/>
          <a:stretch/>
        </p:blipFill>
        <p:spPr>
          <a:xfrm>
            <a:off x="1814400" y="4067280"/>
            <a:ext cx="646200" cy="6397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D:\0 培训中心\20101130 董老师任务\3 图片资料\墨迹\07.PNG"/>
          <p:cNvPicPr/>
          <p:nvPr/>
        </p:nvPicPr>
        <p:blipFill>
          <a:blip r:embed="rId9"/>
          <a:stretch/>
        </p:blipFill>
        <p:spPr>
          <a:xfrm>
            <a:off x="6767640" y="4057560"/>
            <a:ext cx="645840" cy="6397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D:\0 培训中心\20101130 董老师任务\3 图片资料\墨迹\08.PNG"/>
          <p:cNvPicPr/>
          <p:nvPr/>
        </p:nvPicPr>
        <p:blipFill>
          <a:blip r:embed="rId10"/>
          <a:stretch/>
        </p:blipFill>
        <p:spPr>
          <a:xfrm>
            <a:off x="2414520" y="5435640"/>
            <a:ext cx="4341960" cy="566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D:\0 培训中心\20101130 董老师任务\3 图片资料\墨迹\07.PNG"/>
          <p:cNvPicPr/>
          <p:nvPr/>
        </p:nvPicPr>
        <p:blipFill>
          <a:blip r:embed="rId11"/>
          <a:stretch/>
        </p:blipFill>
        <p:spPr>
          <a:xfrm>
            <a:off x="1814400" y="5378400"/>
            <a:ext cx="646200" cy="639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D:\0 培训中心\20101130 董老师任务\3 图片资料\墨迹\07.PNG"/>
          <p:cNvPicPr/>
          <p:nvPr/>
        </p:nvPicPr>
        <p:blipFill>
          <a:blip r:embed="rId12"/>
          <a:stretch/>
        </p:blipFill>
        <p:spPr>
          <a:xfrm>
            <a:off x="6767640" y="5398920"/>
            <a:ext cx="645840" cy="640080"/>
          </a:xfrm>
          <a:prstGeom prst="rect">
            <a:avLst/>
          </a:prstGeom>
          <a:ln w="0">
            <a:noFill/>
          </a:ln>
        </p:spPr>
      </p:pic>
      <p:sp>
        <p:nvSpPr>
          <p:cNvPr id="275" name="右箭头 3"/>
          <p:cNvSpPr/>
          <p:nvPr/>
        </p:nvSpPr>
        <p:spPr>
          <a:xfrm>
            <a:off x="696960" y="1487520"/>
            <a:ext cx="976320" cy="3096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c00000"/>
          </a:solidFill>
          <a:ln w="31680">
            <a:solidFill>
              <a:srgbClr val="c00000">
                <a:alpha val="8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239760" y="922320"/>
            <a:ext cx="86868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传送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-&gt;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批量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上报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批量上报可以对多个单位的表单数据进行上报操作，适用于主管单位、集团单位。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批量上报功能不审核单位数据，请慎用。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180880" y="299520"/>
            <a:ext cx="688500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批量上报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0" y="6627960"/>
            <a:ext cx="103824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D722-826F-450B-89DE-B6452CC77A59}" type="datetime"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6/7/31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灯片编号占位符 4"/>
          <p:cNvSpPr/>
          <p:nvPr/>
        </p:nvSpPr>
        <p:spPr>
          <a:xfrm>
            <a:off x="8612280" y="6642000"/>
            <a:ext cx="544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158C-BD2E-4A56-BF87-A0977C9F2AE8}" type="slidenum"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图片 1" descr=""/>
          <p:cNvPicPr/>
          <p:nvPr/>
        </p:nvPicPr>
        <p:blipFill>
          <a:blip r:embed="rId1"/>
          <a:stretch/>
        </p:blipFill>
        <p:spPr>
          <a:xfrm>
            <a:off x="244440" y="2722680"/>
            <a:ext cx="8718480" cy="2265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180880" y="299520"/>
            <a:ext cx="688500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报表打印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11" name="灯片编号占位符 3"/>
          <p:cNvSpPr/>
          <p:nvPr/>
        </p:nvSpPr>
        <p:spPr>
          <a:xfrm>
            <a:off x="8612280" y="6642000"/>
            <a:ext cx="544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5D40-8350-405A-9FE8-9D436F7414F0}" type="slidenum"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4" descr="E:\20101130 董老师任务\ff\1285804566504_zcool.com.cn\未标题-2.png"/>
          <p:cNvPicPr/>
          <p:nvPr/>
        </p:nvPicPr>
        <p:blipFill>
          <a:blip r:embed="rId1"/>
          <a:stretch/>
        </p:blipFill>
        <p:spPr>
          <a:xfrm>
            <a:off x="311040" y="798480"/>
            <a:ext cx="914400" cy="951120"/>
          </a:xfrm>
          <a:prstGeom prst="rect">
            <a:avLst/>
          </a:prstGeom>
          <a:ln w="0">
            <a:noFill/>
          </a:ln>
        </p:spPr>
      </p:pic>
      <p:sp>
        <p:nvSpPr>
          <p:cNvPr id="413" name="TextBox 6"/>
          <p:cNvSpPr/>
          <p:nvPr/>
        </p:nvSpPr>
        <p:spPr>
          <a:xfrm>
            <a:off x="850320" y="1041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报表打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矩形 9"/>
          <p:cNvSpPr/>
          <p:nvPr/>
        </p:nvSpPr>
        <p:spPr>
          <a:xfrm>
            <a:off x="212760" y="1736640"/>
            <a:ext cx="8672400" cy="41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报表打印前，请先安装“久其报表组件“，安装完成后重启浏览器才能打印。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打印下拉菜单下“打印方案管理”中可切换打印方案，支持多种打印格式。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5" name="图片 1" descr=""/>
          <p:cNvPicPr/>
          <p:nvPr/>
        </p:nvPicPr>
        <p:blipFill>
          <a:blip r:embed="rId2"/>
          <a:stretch/>
        </p:blipFill>
        <p:spPr>
          <a:xfrm>
            <a:off x="212760" y="2463840"/>
            <a:ext cx="8672400" cy="3259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507960" y="1814400"/>
            <a:ext cx="8331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    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网络环境不理想时，单位也可采用在单机版中填报数据，然后将数据导出生成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jio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文件，然后把决算数据导入到网络版。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JIO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上传与下载功能为企业决算系统与单机版之间的数据（包括业务数据、户数核对数据和审核出错说明数据）传输提供了桥梁。即通过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JIO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上传，可以把单机版传出的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JIO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数据上传到企业决算网络版中；通过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JIO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下载，可以把企业决算网络版的数据下载生成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JIO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文件，该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JIO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文件可以装入单机版，在单机版中进行展示和编辑。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步骤：传送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-&gt;JIO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上传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下载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注意：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JIO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文件是存储数据用的，要保护好导出的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JIO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文件。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180880" y="299520"/>
            <a:ext cx="688500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JIO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上传与下载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18" name="灯片编号占位符 3"/>
          <p:cNvSpPr/>
          <p:nvPr/>
        </p:nvSpPr>
        <p:spPr>
          <a:xfrm>
            <a:off x="8612280" y="6642000"/>
            <a:ext cx="544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1506-9FA4-4A7A-AC79-37BE5912E21F}" type="slidenum"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Picture 4" descr="E:\20101130 董老师任务\ff\1285804566504_zcool.com.cn\未标题-2.png"/>
          <p:cNvPicPr/>
          <p:nvPr/>
        </p:nvPicPr>
        <p:blipFill>
          <a:blip r:embed="rId1"/>
          <a:stretch/>
        </p:blipFill>
        <p:spPr>
          <a:xfrm>
            <a:off x="560520" y="878040"/>
            <a:ext cx="914400" cy="950760"/>
          </a:xfrm>
          <a:prstGeom prst="rect">
            <a:avLst/>
          </a:prstGeom>
          <a:ln w="0">
            <a:noFill/>
          </a:ln>
        </p:spPr>
      </p:pic>
      <p:sp>
        <p:nvSpPr>
          <p:cNvPr id="420" name="TextBox 6"/>
          <p:cNvSpPr/>
          <p:nvPr/>
        </p:nvSpPr>
        <p:spPr>
          <a:xfrm>
            <a:off x="1132920" y="1120680"/>
            <a:ext cx="187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JIO</a:t>
            </a:r>
            <a:r>
              <a:rPr b="1" lang="zh-CN" sz="28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上传与下载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矩形 3"/>
          <p:cNvSpPr/>
          <p:nvPr/>
        </p:nvSpPr>
        <p:spPr>
          <a:xfrm>
            <a:off x="1519200" y="878040"/>
            <a:ext cx="4892760" cy="25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谢谢</a:t>
            </a:r>
            <a:r>
              <a:rPr b="1" lang="zh-CN" sz="6600" spc="-1" strike="noStrike">
                <a:solidFill>
                  <a:srgbClr val="ffffff"/>
                </a:solidFill>
                <a:latin typeface="华文行楷"/>
                <a:ea typeface="华文行楷"/>
              </a:rPr>
              <a:t>！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2" descr="D:\0 培训中心\20101130 董老师任务\3 图片资料\公司logo.PNG"/>
          <p:cNvPicPr/>
          <p:nvPr/>
        </p:nvPicPr>
        <p:blipFill>
          <a:blip r:embed="rId1"/>
          <a:stretch/>
        </p:blipFill>
        <p:spPr>
          <a:xfrm>
            <a:off x="212760" y="212760"/>
            <a:ext cx="1987560" cy="793800"/>
          </a:xfrm>
          <a:prstGeom prst="rect">
            <a:avLst/>
          </a:prstGeom>
          <a:ln w="0">
            <a:noFill/>
          </a:ln>
        </p:spPr>
      </p:pic>
      <p:sp>
        <p:nvSpPr>
          <p:cNvPr id="423" name="矩形 1"/>
          <p:cNvSpPr/>
          <p:nvPr/>
        </p:nvSpPr>
        <p:spPr>
          <a:xfrm>
            <a:off x="4553640" y="4475160"/>
            <a:ext cx="426312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楷体"/>
                <a:ea typeface="华文楷体"/>
              </a:rPr>
              <a:t>电话</a:t>
            </a:r>
            <a:r>
              <a:rPr b="1" lang="en-US" sz="3600" spc="-1" strike="noStrike">
                <a:solidFill>
                  <a:srgbClr val="ffffff"/>
                </a:solidFill>
                <a:latin typeface="华文楷体"/>
                <a:ea typeface="华文楷体"/>
              </a:rPr>
              <a:t>:0731-8512919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楷体"/>
                <a:ea typeface="华文楷体"/>
              </a:rPr>
              <a:t>手机：</a:t>
            </a:r>
            <a:r>
              <a:rPr b="1" lang="en-US" sz="3600" spc="-1" strike="noStrike">
                <a:solidFill>
                  <a:srgbClr val="ffffff"/>
                </a:solidFill>
                <a:latin typeface="华文楷体"/>
                <a:ea typeface="华文楷体"/>
              </a:rPr>
              <a:t>1862758525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楷体"/>
                <a:ea typeface="华文楷体"/>
              </a:rPr>
              <a:t>QQ</a:t>
            </a:r>
            <a:r>
              <a:rPr b="1" lang="zh-CN" sz="3600" spc="-1" strike="noStrike">
                <a:solidFill>
                  <a:srgbClr val="ffffff"/>
                </a:solidFill>
                <a:latin typeface="华文楷体"/>
                <a:ea typeface="华文楷体"/>
              </a:rPr>
              <a:t>号：</a:t>
            </a:r>
            <a:r>
              <a:rPr b="1" lang="en-US" sz="3600" spc="-1" strike="noStrike">
                <a:solidFill>
                  <a:srgbClr val="ffffff"/>
                </a:solidFill>
                <a:latin typeface="华文楷体"/>
                <a:ea typeface="华文楷体"/>
              </a:rPr>
              <a:t>28939340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291960" y="1385640"/>
            <a:ext cx="8593200" cy="48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企业财务会计决算报表网络报送系统基于微软的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.NET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技术平台和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Oracle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数据库，以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B/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模式为主，兼有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C/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模式。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系统采用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RO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报表大厅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9.0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版本，相比单机版存在如下优势：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无需安装软件和更新参数，有网络和浏览器即可；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所有的数据都存放在服务器上，方便数据及时修改和上报；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可实时的访问所有功能；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与单机版无缝兼容，方便单机版数据与网络版数据的转换。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注意：浏览器方面，支持火狐浏览器和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IE7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以上版本浏览器，推荐使用火狐浏览器，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火狐浏览器下载链接如下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9857c"/>
                </a:solidFill>
                <a:uFillTx/>
                <a:latin typeface="微软雅黑"/>
                <a:hlinkClick r:id="rId1"/>
              </a:rPr>
              <a:t>http://www.firefox.com.cn/download/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180880" y="299520"/>
            <a:ext cx="688500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系统简介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0" y="6627960"/>
            <a:ext cx="103824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981B-24A9-471F-801B-02319F11C0F8}" type="datetime"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6/7/31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灯片编号占位符 4"/>
          <p:cNvSpPr/>
          <p:nvPr/>
        </p:nvSpPr>
        <p:spPr>
          <a:xfrm>
            <a:off x="8612280" y="6642000"/>
            <a:ext cx="544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3698-B6C0-4FB8-9D45-9D6122AE5902}" type="slidenum"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80880" y="299520"/>
            <a:ext cx="6885000" cy="460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29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目录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281" name="Picture 5" descr="D:\0 培训中心\20101130 董老师任务\3 图片资料\墨迹\08.PNG"/>
          <p:cNvPicPr/>
          <p:nvPr/>
        </p:nvPicPr>
        <p:blipFill>
          <a:blip r:embed="rId1"/>
          <a:stretch/>
        </p:blipFill>
        <p:spPr>
          <a:xfrm>
            <a:off x="2462040" y="1347840"/>
            <a:ext cx="4343400" cy="5666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D:\0 培训中心\20101130 董老师任务\3 图片资料\墨迹\07.PNG"/>
          <p:cNvPicPr/>
          <p:nvPr/>
        </p:nvPicPr>
        <p:blipFill>
          <a:blip r:embed="rId2"/>
          <a:stretch/>
        </p:blipFill>
        <p:spPr>
          <a:xfrm>
            <a:off x="1817640" y="1322280"/>
            <a:ext cx="644400" cy="6397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" descr="D:\0 培训中心\20101130 董老师任务\3 图片资料\墨迹\07.PNG"/>
          <p:cNvPicPr/>
          <p:nvPr/>
        </p:nvPicPr>
        <p:blipFill>
          <a:blip r:embed="rId3"/>
          <a:stretch/>
        </p:blipFill>
        <p:spPr>
          <a:xfrm>
            <a:off x="6767640" y="1322280"/>
            <a:ext cx="645840" cy="639720"/>
          </a:xfrm>
          <a:prstGeom prst="rect">
            <a:avLst/>
          </a:prstGeom>
          <a:ln w="0">
            <a:noFill/>
          </a:ln>
        </p:spPr>
      </p:pic>
      <p:sp>
        <p:nvSpPr>
          <p:cNvPr id="284" name="文本框 2"/>
          <p:cNvSpPr/>
          <p:nvPr/>
        </p:nvSpPr>
        <p:spPr>
          <a:xfrm>
            <a:off x="3559320" y="1293840"/>
            <a:ext cx="43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系统简介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文本框 53"/>
          <p:cNvSpPr/>
          <p:nvPr/>
        </p:nvSpPr>
        <p:spPr>
          <a:xfrm>
            <a:off x="3559320" y="2716200"/>
            <a:ext cx="34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据录入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文本框 54"/>
          <p:cNvSpPr/>
          <p:nvPr/>
        </p:nvSpPr>
        <p:spPr>
          <a:xfrm>
            <a:off x="3559320" y="4051440"/>
            <a:ext cx="27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据汇总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文本框 55"/>
          <p:cNvSpPr/>
          <p:nvPr/>
        </p:nvSpPr>
        <p:spPr>
          <a:xfrm>
            <a:off x="3451320" y="5378400"/>
            <a:ext cx="27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据上报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5" descr="D:\0 培训中心\20101130 董老师任务\3 图片资料\墨迹\08.PNG"/>
          <p:cNvPicPr/>
          <p:nvPr/>
        </p:nvPicPr>
        <p:blipFill>
          <a:blip r:embed="rId4"/>
          <a:stretch/>
        </p:blipFill>
        <p:spPr>
          <a:xfrm>
            <a:off x="2475000" y="2739960"/>
            <a:ext cx="4281480" cy="5666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4" descr="D:\0 培训中心\20101130 董老师任务\3 图片资料\墨迹\07.PNG"/>
          <p:cNvPicPr/>
          <p:nvPr/>
        </p:nvPicPr>
        <p:blipFill>
          <a:blip r:embed="rId5"/>
          <a:stretch/>
        </p:blipFill>
        <p:spPr>
          <a:xfrm>
            <a:off x="1814400" y="2698920"/>
            <a:ext cx="646200" cy="6397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" descr="D:\0 培训中心\20101130 董老师任务\3 图片资料\墨迹\07.PNG"/>
          <p:cNvPicPr/>
          <p:nvPr/>
        </p:nvPicPr>
        <p:blipFill>
          <a:blip r:embed="rId6"/>
          <a:stretch/>
        </p:blipFill>
        <p:spPr>
          <a:xfrm>
            <a:off x="6767640" y="2698920"/>
            <a:ext cx="645840" cy="639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D:\0 培训中心\20101130 董老师任务\3 图片资料\墨迹\08.PNG"/>
          <p:cNvPicPr/>
          <p:nvPr/>
        </p:nvPicPr>
        <p:blipFill>
          <a:blip r:embed="rId7"/>
          <a:stretch/>
        </p:blipFill>
        <p:spPr>
          <a:xfrm>
            <a:off x="2462040" y="4073400"/>
            <a:ext cx="4343400" cy="5670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D:\0 培训中心\20101130 董老师任务\3 图片资料\墨迹\07.PNG"/>
          <p:cNvPicPr/>
          <p:nvPr/>
        </p:nvPicPr>
        <p:blipFill>
          <a:blip r:embed="rId8"/>
          <a:stretch/>
        </p:blipFill>
        <p:spPr>
          <a:xfrm>
            <a:off x="1814400" y="4067280"/>
            <a:ext cx="646200" cy="6397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" descr="D:\0 培训中心\20101130 董老师任务\3 图片资料\墨迹\07.PNG"/>
          <p:cNvPicPr/>
          <p:nvPr/>
        </p:nvPicPr>
        <p:blipFill>
          <a:blip r:embed="rId9"/>
          <a:stretch/>
        </p:blipFill>
        <p:spPr>
          <a:xfrm>
            <a:off x="6767640" y="4057560"/>
            <a:ext cx="645840" cy="6397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" descr="D:\0 培训中心\20101130 董老师任务\3 图片资料\墨迹\08.PNG"/>
          <p:cNvPicPr/>
          <p:nvPr/>
        </p:nvPicPr>
        <p:blipFill>
          <a:blip r:embed="rId10"/>
          <a:stretch/>
        </p:blipFill>
        <p:spPr>
          <a:xfrm>
            <a:off x="2414520" y="5435640"/>
            <a:ext cx="4341960" cy="566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" descr="D:\0 培训中心\20101130 董老师任务\3 图片资料\墨迹\07.PNG"/>
          <p:cNvPicPr/>
          <p:nvPr/>
        </p:nvPicPr>
        <p:blipFill>
          <a:blip r:embed="rId11"/>
          <a:stretch/>
        </p:blipFill>
        <p:spPr>
          <a:xfrm>
            <a:off x="1814400" y="5378400"/>
            <a:ext cx="646200" cy="6397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" descr="D:\0 培训中心\20101130 董老师任务\3 图片资料\墨迹\07.PNG"/>
          <p:cNvPicPr/>
          <p:nvPr/>
        </p:nvPicPr>
        <p:blipFill>
          <a:blip r:embed="rId12"/>
          <a:stretch/>
        </p:blipFill>
        <p:spPr>
          <a:xfrm>
            <a:off x="6767640" y="5398920"/>
            <a:ext cx="645840" cy="640080"/>
          </a:xfrm>
          <a:prstGeom prst="rect">
            <a:avLst/>
          </a:prstGeom>
          <a:ln w="0">
            <a:noFill/>
          </a:ln>
        </p:spPr>
      </p:pic>
      <p:sp>
        <p:nvSpPr>
          <p:cNvPr id="297" name="右箭头 21"/>
          <p:cNvSpPr/>
          <p:nvPr/>
        </p:nvSpPr>
        <p:spPr>
          <a:xfrm>
            <a:off x="714240" y="2884320"/>
            <a:ext cx="976320" cy="3096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c00000"/>
          </a:solidFill>
          <a:ln w="31680">
            <a:solidFill>
              <a:srgbClr val="c00000">
                <a:alpha val="8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80880" y="299520"/>
            <a:ext cx="688500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登陆系统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0" y="6224760"/>
            <a:ext cx="103824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BE6E-A1A7-4846-8585-61A6E530D0D3}" type="datetime"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6/7/31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灯片编号占位符 4"/>
          <p:cNvSpPr/>
          <p:nvPr/>
        </p:nvSpPr>
        <p:spPr>
          <a:xfrm>
            <a:off x="8612280" y="6238800"/>
            <a:ext cx="544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DB23-B1F3-451E-91EA-D687EAAB45A3}" type="slidenum"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组合 6"/>
          <p:cNvGrpSpPr/>
          <p:nvPr/>
        </p:nvGrpSpPr>
        <p:grpSpPr>
          <a:xfrm>
            <a:off x="1252440" y="871560"/>
            <a:ext cx="6303960" cy="1217520"/>
            <a:chOff x="1252440" y="871560"/>
            <a:chExt cx="6303960" cy="1217520"/>
          </a:xfrm>
        </p:grpSpPr>
        <p:sp>
          <p:nvSpPr>
            <p:cNvPr id="302" name="矩形 7"/>
            <p:cNvSpPr/>
            <p:nvPr/>
          </p:nvSpPr>
          <p:spPr>
            <a:xfrm>
              <a:off x="1252440" y="871560"/>
              <a:ext cx="6303960" cy="547560"/>
            </a:xfrm>
            <a:prstGeom prst="rect">
              <a:avLst/>
            </a:prstGeom>
            <a:gradFill rotWithShape="0">
              <a:gsLst>
                <a:gs pos="0">
                  <a:srgbClr val="0e4c8e"/>
                </a:gs>
                <a:gs pos="100000">
                  <a:srgbClr val="1366be"/>
                </a:gs>
              </a:gsLst>
              <a:lin ang="16200000"/>
            </a:gradFill>
            <a:ln w="9360">
              <a:solidFill>
                <a:srgbClr val="2767ac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企业财务会计决算报表网络报送系统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网址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: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矩形 8"/>
            <p:cNvSpPr/>
            <p:nvPr/>
          </p:nvSpPr>
          <p:spPr>
            <a:xfrm>
              <a:off x="1252440" y="1419120"/>
              <a:ext cx="6303960" cy="669960"/>
            </a:xfrm>
            <a:prstGeom prst="rect">
              <a:avLst/>
            </a:prstGeom>
            <a:noFill/>
            <a:ln w="9360">
              <a:solidFill>
                <a:srgbClr val="2767ac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ff0000"/>
                  </a:solidFill>
                  <a:uFillTx/>
                  <a:latin typeface="微软雅黑"/>
                  <a:ea typeface="微软雅黑"/>
                </a:rPr>
                <a:t>http://220.168.30.70:8989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TextBox 13"/>
          <p:cNvSpPr/>
          <p:nvPr/>
        </p:nvSpPr>
        <p:spPr>
          <a:xfrm>
            <a:off x="282600" y="2141640"/>
            <a:ext cx="88614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微软雅黑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户名为组织机构代码，默认密码为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56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；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微软雅黑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 “登录”按钮时会提示修改密码，修改密码完成后重新登陆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微软雅黑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“全部分类”中“个人信息管理”中，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补充个人信息（勾选修改密码，可修改本单位的登陆密码）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意：新增单位、用户时以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excel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格的形式提供如下信息：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矩形 4"/>
          <p:cNvSpPr/>
          <p:nvPr/>
        </p:nvSpPr>
        <p:spPr>
          <a:xfrm>
            <a:off x="519120" y="5834160"/>
            <a:ext cx="78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位主代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组织机构代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报表类型，上级单位主代码与单位主代码类似。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495360" y="4156200"/>
          <a:ext cx="8116920" cy="1592280"/>
        </p:xfrm>
        <a:graphic>
          <a:graphicData uri="http://schemas.openxmlformats.org/drawingml/2006/table">
            <a:tbl>
              <a:tblPr/>
              <a:tblGrid>
                <a:gridCol w="1125360"/>
                <a:gridCol w="949320"/>
                <a:gridCol w="882720"/>
                <a:gridCol w="3105360"/>
                <a:gridCol w="1168200"/>
                <a:gridCol w="885960"/>
              </a:tblGrid>
              <a:tr h="522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单位主代码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b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组织机构代码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b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报表类型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b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单位名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b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上级单位主代码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b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企业性质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bf1"/>
                    </a:solidFill>
                  </a:tcPr>
                </a:tc>
              </a:tr>
              <a:tr h="266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WZDM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b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WDM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b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WLX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b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WMC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b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JDW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b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bf1"/>
                    </a:solidFill>
                  </a:tcPr>
                </a:tc>
              </a:tr>
              <a:tr h="268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N31800007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b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N3180000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b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b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湖南省财政厅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b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　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b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财政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bf1"/>
                    </a:solidFill>
                  </a:tcPr>
                </a:tc>
              </a:tr>
              <a:tr h="266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11111177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b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1111117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b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b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湖南省教育厅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b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N31880007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b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省直单位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bf1"/>
                    </a:solidFill>
                  </a:tcPr>
                </a:tc>
              </a:tr>
              <a:tr h="268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22222234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b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2222223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b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b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湖南教育报刊社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b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11111177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b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国有企业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bf1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80880" y="299520"/>
            <a:ext cx="688500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操作流程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8" name="灯片编号占位符 3"/>
          <p:cNvSpPr/>
          <p:nvPr/>
        </p:nvSpPr>
        <p:spPr>
          <a:xfrm>
            <a:off x="8612280" y="6642000"/>
            <a:ext cx="544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B1E4-4193-44B5-A86A-6CC87384D884}" type="slidenum"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文本框 1"/>
          <p:cNvSpPr/>
          <p:nvPr/>
        </p:nvSpPr>
        <p:spPr>
          <a:xfrm>
            <a:off x="189000" y="5683320"/>
            <a:ext cx="887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基层单位：对应系统中单户表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管理单位：包括系统中集团合并表、完全汇总表（汇总单位、财政厅（局））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图片 5" descr=""/>
          <p:cNvPicPr/>
          <p:nvPr/>
        </p:nvPicPr>
        <p:blipFill>
          <a:blip r:embed="rId1"/>
          <a:stretch/>
        </p:blipFill>
        <p:spPr>
          <a:xfrm>
            <a:off x="50760" y="1119240"/>
            <a:ext cx="9093240" cy="4564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7480" y="984240"/>
            <a:ext cx="871056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前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载打印控件并安装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确认用户关联到正确的企业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确认企业关联到正确的任务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确认封面代码中企业名称、本企业代码、报表类型正确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不对请联系所属财政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财政或企业集团注意确认树形结构下的单位和企业是正确的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：系统中单位树形结构建好后，本企业代码和报表类型无法修改，需要删除重建。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首页：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闻公告、文件下载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80880" y="299520"/>
            <a:ext cx="688500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数据录入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0" y="6627960"/>
            <a:ext cx="103824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3738-9095-489A-B4FA-D7E914F466F3}" type="datetime"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6/7/31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灯片编号占位符 4"/>
          <p:cNvSpPr/>
          <p:nvPr/>
        </p:nvSpPr>
        <p:spPr>
          <a:xfrm>
            <a:off x="8612280" y="6642000"/>
            <a:ext cx="544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249A-60C4-4438-99C9-6483E5055188}" type="slidenum"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图片 6" descr=""/>
          <p:cNvPicPr/>
          <p:nvPr/>
        </p:nvPicPr>
        <p:blipFill>
          <a:blip r:embed="rId1"/>
          <a:stretch/>
        </p:blipFill>
        <p:spPr>
          <a:xfrm>
            <a:off x="4308480" y="1230480"/>
            <a:ext cx="4680000" cy="1590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06440" y="1757520"/>
            <a:ext cx="820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步骤：录入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-&gt;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数据录入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绿色单元格不能填数据，通过全算自动生成。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封面代码提取和上年数据提取，会统一提取，这两步操作可跳过，提取过来的数据可根据实际情况调整。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ctrl+c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复制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ctrl+v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粘贴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180880" y="299520"/>
            <a:ext cx="688500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数据录入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8" name="灯片编号占位符 3"/>
          <p:cNvSpPr/>
          <p:nvPr/>
        </p:nvSpPr>
        <p:spPr>
          <a:xfrm>
            <a:off x="8612280" y="6642000"/>
            <a:ext cx="544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CA32-5E65-4020-A88E-1352AA3BE58B}" type="slidenum"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4" descr="E:\20101130 董老师任务\ff\1285804566504_zcool.com.cn\未标题-2.png"/>
          <p:cNvPicPr/>
          <p:nvPr/>
        </p:nvPicPr>
        <p:blipFill>
          <a:blip r:embed="rId1"/>
          <a:stretch/>
        </p:blipFill>
        <p:spPr>
          <a:xfrm>
            <a:off x="560520" y="878040"/>
            <a:ext cx="914400" cy="950760"/>
          </a:xfrm>
          <a:prstGeom prst="rect">
            <a:avLst/>
          </a:prstGeom>
          <a:ln w="0">
            <a:noFill/>
          </a:ln>
        </p:spPr>
      </p:pic>
      <p:sp>
        <p:nvSpPr>
          <p:cNvPr id="320" name="TextBox 6"/>
          <p:cNvSpPr/>
          <p:nvPr/>
        </p:nvSpPr>
        <p:spPr>
          <a:xfrm>
            <a:off x="1099440" y="1120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数据录入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图片 6" descr=""/>
          <p:cNvPicPr/>
          <p:nvPr/>
        </p:nvPicPr>
        <p:blipFill>
          <a:blip r:embed="rId2"/>
          <a:stretch/>
        </p:blipFill>
        <p:spPr>
          <a:xfrm>
            <a:off x="406440" y="3875040"/>
            <a:ext cx="8205840" cy="2454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180880" y="299520"/>
            <a:ext cx="688500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数据运算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0" y="6627960"/>
            <a:ext cx="103824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E65A-2763-484A-8749-92916550DD40}" type="datetime"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6/7/31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灯片编号占位符 4"/>
          <p:cNvSpPr/>
          <p:nvPr/>
        </p:nvSpPr>
        <p:spPr>
          <a:xfrm>
            <a:off x="8612280" y="6642000"/>
            <a:ext cx="544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E654-D054-445A-A045-369305433D2F}" type="slidenum"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06440" y="1757520"/>
            <a:ext cx="820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步骤：录入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-&gt;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数据录入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-&gt;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运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全算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运算：在报表中，有些指标需要录入进去，而有些指标是通过其他指标计算出来的。在数据录入界面中，单击“运算”按钮，就是为了计算出这些指标的值。另外，执行“运算”操作，只执行表内公式。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全算：需要执行默认公式方案的所有公式进行运算时，单击“全算”按钮即可。执行“全算”操作，执行所有表内公式和表间公式。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步骤：录入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-&gt;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批量运算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此功能可以对所有单位的运算公式进行运算。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326" name="Picture 4" descr="E:\20101130 董老师任务\ff\1285804566504_zcool.com.cn\未标题-2.png"/>
          <p:cNvPicPr/>
          <p:nvPr/>
        </p:nvPicPr>
        <p:blipFill>
          <a:blip r:embed="rId1"/>
          <a:stretch/>
        </p:blipFill>
        <p:spPr>
          <a:xfrm>
            <a:off x="560520" y="878040"/>
            <a:ext cx="914400" cy="950760"/>
          </a:xfrm>
          <a:prstGeom prst="rect">
            <a:avLst/>
          </a:prstGeom>
          <a:ln w="0">
            <a:noFill/>
          </a:ln>
        </p:spPr>
      </p:pic>
      <p:sp>
        <p:nvSpPr>
          <p:cNvPr id="327" name="TextBox 6"/>
          <p:cNvSpPr/>
          <p:nvPr/>
        </p:nvSpPr>
        <p:spPr>
          <a:xfrm>
            <a:off x="1099440" y="1120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数据运算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15:59:42Z</dcterms:created>
  <dc:creator>庞军涛·禹正卿·陈经纬</dc:creator>
  <dc:description/>
  <dc:language>en-US</dc:language>
  <cp:lastModifiedBy>林峰</cp:lastModifiedBy>
  <dcterms:modified xsi:type="dcterms:W3CDTF">2017-12-25T08:26:08Z</dcterms:modified>
  <cp:revision>2076</cp:revision>
  <dc:subject/>
  <dc:title>久其公司介绍</dc:title>
</cp:coreProperties>
</file>